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2D46-C7D7-4D1B-AF59-92815D3174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5DFA-2731-4A1C-BA88-860F61E6A0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798E-6F4F-4381-8D9F-C4F1E3AB30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8BEB-28CF-4520-87A5-8F60FE80EC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7916-1082-41AC-B0CF-295C9B79FE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D84E-3D96-4263-9853-ED801F3D66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0C7B-7407-4AB6-ADB9-453DE1268A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A9D6-0D31-4B92-A493-C4F708D2E1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9D3D-BE7E-40A1-B21E-177DB03247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F46C-6ADA-487B-AC1A-4F3F7A43DC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85E6-D532-414D-8795-4590EBC995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5A2-8F38-48CA-9595-82C317B7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33E-ADCF-4F6B-80DE-D4B70E8A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D5B-8E8E-481E-8F3F-E8312977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DE4-428D-4DF5-BD47-ECC13423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378-FDB7-4FF2-B657-79ADA5F0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B12-1177-4AE6-ABF5-0F6CBA1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541-C63E-4F72-B02C-A6FE99CF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098-C8CD-475C-BA3A-C62E55D2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37F-CB1F-4D00-B1BF-23F54EAF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DC3-05E3-4656-996A-A51E100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068-0BEE-4DAF-8AE1-233075BB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49C-0DFE-428F-AF51-287E3AF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3EA2-D431-43FA-98A6-F151340878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5/Illustration_Pisum_sativum0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pload.wikimedia.org/wikipedia/commons/6/65/Illustration_Pisum_sativum0.jpg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defined"/>
          <p:cNvPicPr/>
          <p:nvPr/>
        </p:nvPicPr>
        <p:blipFill>
          <a:blip r:embed="rId1"/>
          <a:stretch/>
        </p:blipFill>
        <p:spPr>
          <a:xfrm>
            <a:off x="5334120" y="152280"/>
            <a:ext cx="365760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undefined"/>
          <p:cNvPicPr/>
          <p:nvPr/>
        </p:nvPicPr>
        <p:blipFill>
          <a:blip r:embed="rId2"/>
          <a:stretch/>
        </p:blipFill>
        <p:spPr>
          <a:xfrm>
            <a:off x="4800600" y="4800600"/>
            <a:ext cx="4191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titel"/>
          <p:cNvPicPr/>
          <p:nvPr/>
        </p:nvPicPr>
        <p:blipFill>
          <a:blip r:embed="rId3"/>
          <a:stretch/>
        </p:blipFill>
        <p:spPr>
          <a:xfrm>
            <a:off x="228600" y="457200"/>
            <a:ext cx="2800440" cy="573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r>
              <a:rPr b="0" lang="de-DE" sz="8800" spc="-1" strike="noStrike">
                <a:solidFill>
                  <a:srgbClr val="33cc33"/>
                </a:solidFill>
                <a:latin typeface="Times New Roman"/>
              </a:rPr>
              <a:t>M</a:t>
            </a:r>
            <a:r>
              <a:rPr b="0" lang="de-DE" sz="6000" spc="-1" strike="noStrike">
                <a:solidFill>
                  <a:srgbClr val="33cc33"/>
                </a:solidFill>
                <a:latin typeface="Times New Roman"/>
              </a:rPr>
              <a:t>endel‘s Law </a:t>
            </a:r>
            <a:br>
              <a:rPr sz="6000"/>
            </a:br>
            <a:r>
              <a:rPr b="0" lang="de-DE" sz="6000" spc="-1" strike="noStrike">
                <a:solidFill>
                  <a:srgbClr val="33cc33"/>
                </a:solidFill>
                <a:latin typeface="Times New Roman"/>
              </a:rPr>
              <a:t>of </a:t>
            </a:r>
            <a:br>
              <a:rPr sz="6000"/>
            </a:br>
            <a:r>
              <a:rPr b="0" lang="de-DE" sz="6000" spc="-1" strike="noStrike">
                <a:solidFill>
                  <a:srgbClr val="33cc33"/>
                </a:solidFill>
                <a:latin typeface="Times New Roman"/>
              </a:rPr>
              <a:t>Segreg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titel"/>
          <p:cNvPicPr/>
          <p:nvPr/>
        </p:nvPicPr>
        <p:blipFill>
          <a:blip r:embed="rId1"/>
          <a:stretch/>
        </p:blipFill>
        <p:spPr>
          <a:xfrm>
            <a:off x="228600" y="457200"/>
            <a:ext cx="2800440" cy="573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Law of Se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66520" y="18284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ir of alleles of each parent separate and only one allele passes from each parent on to an offsp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allele in a parent's pair of alleles is inherited is a matter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alleles occurs during the process of gamete formation (meio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 unite at fer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mendel"/>
          <p:cNvPicPr/>
          <p:nvPr/>
        </p:nvPicPr>
        <p:blipFill>
          <a:blip r:embed="rId1"/>
          <a:stretch/>
        </p:blipFill>
        <p:spPr>
          <a:xfrm>
            <a:off x="304920" y="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photo of Gregor Mendel"/>
          <p:cNvPicPr/>
          <p:nvPr/>
        </p:nvPicPr>
        <p:blipFill>
          <a:blip r:embed="rId2"/>
          <a:stretch/>
        </p:blipFill>
        <p:spPr>
          <a:xfrm>
            <a:off x="5791320" y="1523880"/>
            <a:ext cx="266688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24480" cy="762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strian mo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orn in 182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 monastery known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search and te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fter his death (1884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knowledgment of his discoveries in 1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377px-Illustration_Pisum_sativum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505320" cy="6846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Experiments with Pea Plants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eed coat color (gray or wh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eed shape (round or wrink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eed colour (yellow or gre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od color (green or yel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Flower position (axial or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term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od shape (inflated or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constri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tem length (tall or dwar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76236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photo of 3 pea pods and peas"/>
          <p:cNvPicPr/>
          <p:nvPr/>
        </p:nvPicPr>
        <p:blipFill>
          <a:blip r:embed="rId4"/>
          <a:stretch/>
        </p:blipFill>
        <p:spPr>
          <a:xfrm>
            <a:off x="7162920" y="4495680"/>
            <a:ext cx="1619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http://z.about.com/d/biology/1/0/e/mend4.gif"/>
          <p:cNvPicPr/>
          <p:nvPr/>
        </p:nvPicPr>
        <p:blipFill>
          <a:blip r:embed="rId1"/>
          <a:stretch/>
        </p:blipFill>
        <p:spPr>
          <a:xfrm>
            <a:off x="1447920" y="3886200"/>
            <a:ext cx="43131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z.about.com/d/biology/1/0/b/mend1.gif"/>
          <p:cNvPicPr/>
          <p:nvPr/>
        </p:nvPicPr>
        <p:blipFill>
          <a:blip r:embed="rId2"/>
          <a:stretch/>
        </p:blipFill>
        <p:spPr>
          <a:xfrm>
            <a:off x="609480" y="1676520"/>
            <a:ext cx="3333960" cy="198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900" spc="-1" strike="noStrike">
                <a:solidFill>
                  <a:srgbClr val="cc0000"/>
                </a:solidFill>
                <a:latin typeface="Times New Roman"/>
              </a:rPr>
              <a:t>Cross-Pollination of Purebread Plant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295280"/>
            <a:ext cx="38862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ross-pollination between   true breeding green a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ellow 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l F1 gre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1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g = 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9052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26668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26668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042920" y="3789360"/>
            <a:ext cx="7274160" cy="24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F2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self-pollination of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green F1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¾ in F2 gre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¼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3 : 1 ratio in po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colour in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 = dominant =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 = recessive =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G, gg = hom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://z.about.com/d/biology/1/0/c/mend2.gif"/>
          <p:cNvPicPr/>
          <p:nvPr/>
        </p:nvPicPr>
        <p:blipFill>
          <a:blip r:embed="rId1"/>
          <a:stretch/>
        </p:blipFill>
        <p:spPr>
          <a:xfrm>
            <a:off x="457200" y="1523880"/>
            <a:ext cx="3809880" cy="201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29192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http://z.about.com/d/biology/1/0/d/mend3.gif"/>
          <p:cNvPicPr/>
          <p:nvPr/>
        </p:nvPicPr>
        <p:blipFill>
          <a:blip r:embed="rId2"/>
          <a:stretch/>
        </p:blipFill>
        <p:spPr>
          <a:xfrm>
            <a:off x="838080" y="3886200"/>
            <a:ext cx="330516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457200" y="3886200"/>
            <a:ext cx="3970440" cy="271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19640" y="4508640"/>
            <a:ext cx="302436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titel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57373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0000"/>
                </a:solidFill>
                <a:latin typeface="Times New Roman"/>
              </a:rPr>
              <a:t>Seed Co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 = dominant =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 = recessive =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89080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diagram showing the result of cross-pollination in the first 2 offspring generations--in generation f1 all are yellow peas but in generation f2 the ratio of yellow to green peas is 3 to 1"/>
          <p:cNvPicPr/>
          <p:nvPr/>
        </p:nvPicPr>
        <p:blipFill>
          <a:blip r:embed="rId2"/>
          <a:stretch/>
        </p:blipFill>
        <p:spPr>
          <a:xfrm>
            <a:off x="2819520" y="1447920"/>
            <a:ext cx="4502160" cy="198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-1425600" y="25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1" descr="27"/>
          <p:cNvPicPr/>
          <p:nvPr/>
        </p:nvPicPr>
        <p:blipFill>
          <a:blip r:embed="rId3"/>
          <a:stretch/>
        </p:blipFill>
        <p:spPr>
          <a:xfrm>
            <a:off x="5181480" y="3505320"/>
            <a:ext cx="3578400" cy="2979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1908000" y="4149720"/>
            <a:ext cx="2880000" cy="84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titel"/>
          <p:cNvPicPr/>
          <p:nvPr/>
        </p:nvPicPr>
        <p:blipFill>
          <a:blip r:embed="rId1"/>
          <a:stretch/>
        </p:blipFill>
        <p:spPr>
          <a:xfrm>
            <a:off x="228600" y="457200"/>
            <a:ext cx="2800440" cy="573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sults from Mendel's Experim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2666880" y="2133720"/>
            <a:ext cx="6297480" cy="3958920"/>
            <a:chOff x="2666880" y="2133720"/>
            <a:chExt cx="6297480" cy="3958920"/>
          </a:xfrm>
        </p:grpSpPr>
        <p:grpSp>
          <p:nvGrpSpPr>
            <p:cNvPr id="87" name="Group 5"/>
            <p:cNvGrpSpPr/>
            <p:nvPr/>
          </p:nvGrpSpPr>
          <p:grpSpPr>
            <a:xfrm>
              <a:off x="2671560" y="2138760"/>
              <a:ext cx="6286680" cy="3948120"/>
              <a:chOff x="2671560" y="2138760"/>
              <a:chExt cx="6286680" cy="3948120"/>
            </a:xfrm>
          </p:grpSpPr>
          <p:grpSp>
            <p:nvGrpSpPr>
              <p:cNvPr id="88" name="Group 6"/>
              <p:cNvGrpSpPr/>
              <p:nvPr/>
            </p:nvGrpSpPr>
            <p:grpSpPr>
              <a:xfrm>
                <a:off x="2671560" y="2138760"/>
                <a:ext cx="1914480" cy="690480"/>
                <a:chOff x="2671560" y="2138760"/>
                <a:chExt cx="1914480" cy="690480"/>
              </a:xfrm>
            </p:grpSpPr>
            <p:sp>
              <p:nvSpPr>
                <p:cNvPr id="89" name="Rectangle 7"/>
                <p:cNvSpPr/>
                <p:nvPr/>
              </p:nvSpPr>
              <p:spPr>
                <a:xfrm>
                  <a:off x="2732040" y="2200320"/>
                  <a:ext cx="17935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ental Cross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Rectangle 8"/>
                <p:cNvSpPr/>
                <p:nvPr/>
              </p:nvSpPr>
              <p:spPr>
                <a:xfrm>
                  <a:off x="2671560" y="2138760"/>
                  <a:ext cx="1914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Group 9"/>
              <p:cNvGrpSpPr/>
              <p:nvPr/>
            </p:nvGrpSpPr>
            <p:grpSpPr>
              <a:xfrm>
                <a:off x="4586400" y="2138760"/>
                <a:ext cx="1275480" cy="690480"/>
                <a:chOff x="4586400" y="2138760"/>
                <a:chExt cx="1275480" cy="690480"/>
              </a:xfrm>
            </p:grpSpPr>
            <p:sp>
              <p:nvSpPr>
                <p:cNvPr id="92" name="Rectangle 10"/>
                <p:cNvSpPr/>
                <p:nvPr/>
              </p:nvSpPr>
              <p:spPr>
                <a:xfrm>
                  <a:off x="4646520" y="2200320"/>
                  <a:ext cx="11548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1" lang="en-GB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Phenotyp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11"/>
                <p:cNvSpPr/>
                <p:nvPr/>
              </p:nvSpPr>
              <p:spPr>
                <a:xfrm>
                  <a:off x="4586400" y="2138760"/>
                  <a:ext cx="1275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2"/>
              <p:cNvGrpSpPr/>
              <p:nvPr/>
            </p:nvGrpSpPr>
            <p:grpSpPr>
              <a:xfrm>
                <a:off x="5862240" y="2138760"/>
                <a:ext cx="2169720" cy="690480"/>
                <a:chOff x="5862240" y="2138760"/>
                <a:chExt cx="2169720" cy="690480"/>
              </a:xfrm>
            </p:grpSpPr>
            <p:sp>
              <p:nvSpPr>
                <p:cNvPr id="95" name="Rectangle 13"/>
                <p:cNvSpPr/>
                <p:nvPr/>
              </p:nvSpPr>
              <p:spPr>
                <a:xfrm>
                  <a:off x="5922360" y="2200320"/>
                  <a:ext cx="20491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1" lang="en-GB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Phenotypic Ratio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4"/>
                <p:cNvSpPr/>
                <p:nvPr/>
              </p:nvSpPr>
              <p:spPr>
                <a:xfrm>
                  <a:off x="5862240" y="2138760"/>
                  <a:ext cx="2169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Group 15"/>
              <p:cNvGrpSpPr/>
              <p:nvPr/>
            </p:nvGrpSpPr>
            <p:grpSpPr>
              <a:xfrm>
                <a:off x="8032680" y="2138760"/>
                <a:ext cx="925560" cy="690480"/>
                <a:chOff x="8032680" y="2138760"/>
                <a:chExt cx="925560" cy="690480"/>
              </a:xfrm>
            </p:grpSpPr>
            <p:sp>
              <p:nvSpPr>
                <p:cNvPr id="98" name="Rectangle 16"/>
                <p:cNvSpPr/>
                <p:nvPr/>
              </p:nvSpPr>
              <p:spPr>
                <a:xfrm>
                  <a:off x="8092800" y="2200320"/>
                  <a:ext cx="8053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1" lang="en-GB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Ratio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Rectangle 17"/>
                <p:cNvSpPr/>
                <p:nvPr/>
              </p:nvSpPr>
              <p:spPr>
                <a:xfrm>
                  <a:off x="8032680" y="2138760"/>
                  <a:ext cx="92556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Group 18"/>
              <p:cNvGrpSpPr/>
              <p:nvPr/>
            </p:nvGrpSpPr>
            <p:grpSpPr>
              <a:xfrm>
                <a:off x="2671560" y="2953080"/>
                <a:ext cx="1914480" cy="690480"/>
                <a:chOff x="2671560" y="2953080"/>
                <a:chExt cx="1914480" cy="690480"/>
              </a:xfrm>
            </p:grpSpPr>
            <p:sp>
              <p:nvSpPr>
                <p:cNvPr id="101" name="Rectangle 19"/>
                <p:cNvSpPr/>
                <p:nvPr/>
              </p:nvSpPr>
              <p:spPr>
                <a:xfrm>
                  <a:off x="2732040" y="3014280"/>
                  <a:ext cx="17935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und x Wrinkled Seed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Rectangle 20"/>
                <p:cNvSpPr/>
                <p:nvPr/>
              </p:nvSpPr>
              <p:spPr>
                <a:xfrm>
                  <a:off x="2671560" y="2953080"/>
                  <a:ext cx="1914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21"/>
              <p:cNvGrpSpPr/>
              <p:nvPr/>
            </p:nvGrpSpPr>
            <p:grpSpPr>
              <a:xfrm>
                <a:off x="4586400" y="2953080"/>
                <a:ext cx="1275480" cy="690480"/>
                <a:chOff x="4586400" y="2953080"/>
                <a:chExt cx="1275480" cy="690480"/>
              </a:xfrm>
            </p:grpSpPr>
            <p:sp>
              <p:nvSpPr>
                <p:cNvPr id="104" name="Rectangle 22"/>
                <p:cNvSpPr/>
                <p:nvPr/>
              </p:nvSpPr>
              <p:spPr>
                <a:xfrm>
                  <a:off x="4646520" y="3014280"/>
                  <a:ext cx="11548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und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23"/>
                <p:cNvSpPr/>
                <p:nvPr/>
              </p:nvSpPr>
              <p:spPr>
                <a:xfrm>
                  <a:off x="4586400" y="2953080"/>
                  <a:ext cx="1275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24"/>
              <p:cNvGrpSpPr/>
              <p:nvPr/>
            </p:nvGrpSpPr>
            <p:grpSpPr>
              <a:xfrm>
                <a:off x="5862240" y="2953080"/>
                <a:ext cx="2169720" cy="690480"/>
                <a:chOff x="5862240" y="2953080"/>
                <a:chExt cx="2169720" cy="690480"/>
              </a:xfrm>
            </p:grpSpPr>
            <p:sp>
              <p:nvSpPr>
                <p:cNvPr id="107" name="Rectangle 25"/>
                <p:cNvSpPr/>
                <p:nvPr/>
              </p:nvSpPr>
              <p:spPr>
                <a:xfrm>
                  <a:off x="5922360" y="3014280"/>
                  <a:ext cx="20491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74 Round 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50 Wrinkled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26"/>
                <p:cNvSpPr/>
                <p:nvPr/>
              </p:nvSpPr>
              <p:spPr>
                <a:xfrm>
                  <a:off x="5862240" y="2953080"/>
                  <a:ext cx="2169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27"/>
              <p:cNvGrpSpPr/>
              <p:nvPr/>
            </p:nvGrpSpPr>
            <p:grpSpPr>
              <a:xfrm>
                <a:off x="8032680" y="2953080"/>
                <a:ext cx="925560" cy="690480"/>
                <a:chOff x="8032680" y="2953080"/>
                <a:chExt cx="925560" cy="690480"/>
              </a:xfrm>
            </p:grpSpPr>
            <p:sp>
              <p:nvSpPr>
                <p:cNvPr id="110" name="Rectangle 28"/>
                <p:cNvSpPr/>
                <p:nvPr/>
              </p:nvSpPr>
              <p:spPr>
                <a:xfrm>
                  <a:off x="8092800" y="3014280"/>
                  <a:ext cx="8053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96: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Rectangle 29"/>
                <p:cNvSpPr/>
                <p:nvPr/>
              </p:nvSpPr>
              <p:spPr>
                <a:xfrm>
                  <a:off x="8032680" y="2953080"/>
                  <a:ext cx="92556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30"/>
              <p:cNvGrpSpPr/>
              <p:nvPr/>
            </p:nvGrpSpPr>
            <p:grpSpPr>
              <a:xfrm>
                <a:off x="2671560" y="3767400"/>
                <a:ext cx="1914480" cy="690480"/>
                <a:chOff x="2671560" y="3767400"/>
                <a:chExt cx="1914480" cy="690480"/>
              </a:xfrm>
            </p:grpSpPr>
            <p:sp>
              <p:nvSpPr>
                <p:cNvPr id="113" name="Rectangle 31"/>
                <p:cNvSpPr/>
                <p:nvPr/>
              </p:nvSpPr>
              <p:spPr>
                <a:xfrm>
                  <a:off x="2732040" y="3828960"/>
                  <a:ext cx="17935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llow x Green Seed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32"/>
                <p:cNvSpPr/>
                <p:nvPr/>
              </p:nvSpPr>
              <p:spPr>
                <a:xfrm>
                  <a:off x="2671560" y="3767400"/>
                  <a:ext cx="1914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33"/>
              <p:cNvGrpSpPr/>
              <p:nvPr/>
            </p:nvGrpSpPr>
            <p:grpSpPr>
              <a:xfrm>
                <a:off x="4586400" y="3767400"/>
                <a:ext cx="1275480" cy="690480"/>
                <a:chOff x="4586400" y="3767400"/>
                <a:chExt cx="1275480" cy="690480"/>
              </a:xfrm>
            </p:grpSpPr>
            <p:sp>
              <p:nvSpPr>
                <p:cNvPr id="116" name="Rectangle 34"/>
                <p:cNvSpPr/>
                <p:nvPr/>
              </p:nvSpPr>
              <p:spPr>
                <a:xfrm>
                  <a:off x="4646520" y="3828960"/>
                  <a:ext cx="11548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llow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Rectangle 35"/>
                <p:cNvSpPr/>
                <p:nvPr/>
              </p:nvSpPr>
              <p:spPr>
                <a:xfrm>
                  <a:off x="4586400" y="3767400"/>
                  <a:ext cx="1275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36"/>
              <p:cNvGrpSpPr/>
              <p:nvPr/>
            </p:nvGrpSpPr>
            <p:grpSpPr>
              <a:xfrm>
                <a:off x="5862240" y="3767400"/>
                <a:ext cx="2169720" cy="690480"/>
                <a:chOff x="5862240" y="3767400"/>
                <a:chExt cx="2169720" cy="690480"/>
              </a:xfrm>
            </p:grpSpPr>
            <p:sp>
              <p:nvSpPr>
                <p:cNvPr id="119" name="Rectangle 37"/>
                <p:cNvSpPr/>
                <p:nvPr/>
              </p:nvSpPr>
              <p:spPr>
                <a:xfrm>
                  <a:off x="5922360" y="3828960"/>
                  <a:ext cx="20491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22 Yellow 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1 Gre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38"/>
                <p:cNvSpPr/>
                <p:nvPr/>
              </p:nvSpPr>
              <p:spPr>
                <a:xfrm>
                  <a:off x="5862240" y="3767400"/>
                  <a:ext cx="2169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Group 39"/>
              <p:cNvGrpSpPr/>
              <p:nvPr/>
            </p:nvGrpSpPr>
            <p:grpSpPr>
              <a:xfrm>
                <a:off x="8032680" y="3767400"/>
                <a:ext cx="925560" cy="690480"/>
                <a:chOff x="8032680" y="3767400"/>
                <a:chExt cx="925560" cy="690480"/>
              </a:xfrm>
            </p:grpSpPr>
            <p:sp>
              <p:nvSpPr>
                <p:cNvPr id="122" name="Rectangle 40"/>
                <p:cNvSpPr/>
                <p:nvPr/>
              </p:nvSpPr>
              <p:spPr>
                <a:xfrm>
                  <a:off x="8092800" y="3828960"/>
                  <a:ext cx="8053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01: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Rectangle 41"/>
                <p:cNvSpPr/>
                <p:nvPr/>
              </p:nvSpPr>
              <p:spPr>
                <a:xfrm>
                  <a:off x="8032680" y="3767400"/>
                  <a:ext cx="92556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Group 42"/>
              <p:cNvGrpSpPr/>
              <p:nvPr/>
            </p:nvGrpSpPr>
            <p:grpSpPr>
              <a:xfrm>
                <a:off x="2671560" y="4581720"/>
                <a:ext cx="1914480" cy="690480"/>
                <a:chOff x="2671560" y="4581720"/>
                <a:chExt cx="1914480" cy="690480"/>
              </a:xfrm>
            </p:grpSpPr>
            <p:sp>
              <p:nvSpPr>
                <p:cNvPr id="125" name="Rectangle 43"/>
                <p:cNvSpPr/>
                <p:nvPr/>
              </p:nvSpPr>
              <p:spPr>
                <a:xfrm>
                  <a:off x="2732040" y="4643280"/>
                  <a:ext cx="17935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xial x Termin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lower Posi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44"/>
                <p:cNvSpPr/>
                <p:nvPr/>
              </p:nvSpPr>
              <p:spPr>
                <a:xfrm>
                  <a:off x="2671560" y="4581720"/>
                  <a:ext cx="1914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45"/>
              <p:cNvGrpSpPr/>
              <p:nvPr/>
            </p:nvGrpSpPr>
            <p:grpSpPr>
              <a:xfrm>
                <a:off x="4586400" y="4581720"/>
                <a:ext cx="1275480" cy="690480"/>
                <a:chOff x="4586400" y="4581720"/>
                <a:chExt cx="1275480" cy="690480"/>
              </a:xfrm>
            </p:grpSpPr>
            <p:sp>
              <p:nvSpPr>
                <p:cNvPr id="128" name="Rectangle 46"/>
                <p:cNvSpPr/>
                <p:nvPr/>
              </p:nvSpPr>
              <p:spPr>
                <a:xfrm>
                  <a:off x="4646520" y="4643280"/>
                  <a:ext cx="11548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x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47"/>
                <p:cNvSpPr/>
                <p:nvPr/>
              </p:nvSpPr>
              <p:spPr>
                <a:xfrm>
                  <a:off x="4586400" y="4581720"/>
                  <a:ext cx="1275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48"/>
              <p:cNvGrpSpPr/>
              <p:nvPr/>
            </p:nvGrpSpPr>
            <p:grpSpPr>
              <a:xfrm>
                <a:off x="5862240" y="4581720"/>
                <a:ext cx="2169720" cy="690480"/>
                <a:chOff x="5862240" y="4581720"/>
                <a:chExt cx="2169720" cy="690480"/>
              </a:xfrm>
            </p:grpSpPr>
            <p:sp>
              <p:nvSpPr>
                <p:cNvPr id="131" name="Rectangle 49"/>
                <p:cNvSpPr/>
                <p:nvPr/>
              </p:nvSpPr>
              <p:spPr>
                <a:xfrm>
                  <a:off x="5922360" y="4643280"/>
                  <a:ext cx="20491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05 Axial 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4 Termin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50"/>
                <p:cNvSpPr/>
                <p:nvPr/>
              </p:nvSpPr>
              <p:spPr>
                <a:xfrm>
                  <a:off x="5862240" y="4581720"/>
                  <a:ext cx="2169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51"/>
              <p:cNvGrpSpPr/>
              <p:nvPr/>
            </p:nvGrpSpPr>
            <p:grpSpPr>
              <a:xfrm>
                <a:off x="8032680" y="4581720"/>
                <a:ext cx="925560" cy="690480"/>
                <a:chOff x="8032680" y="4581720"/>
                <a:chExt cx="925560" cy="690480"/>
              </a:xfrm>
            </p:grpSpPr>
            <p:sp>
              <p:nvSpPr>
                <p:cNvPr id="134" name="Rectangle 52"/>
                <p:cNvSpPr/>
                <p:nvPr/>
              </p:nvSpPr>
              <p:spPr>
                <a:xfrm>
                  <a:off x="8092800" y="4643280"/>
                  <a:ext cx="8053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15: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53"/>
                <p:cNvSpPr/>
                <p:nvPr/>
              </p:nvSpPr>
              <p:spPr>
                <a:xfrm>
                  <a:off x="8032680" y="4581720"/>
                  <a:ext cx="92556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54"/>
              <p:cNvGrpSpPr/>
              <p:nvPr/>
            </p:nvGrpSpPr>
            <p:grpSpPr>
              <a:xfrm>
                <a:off x="2671560" y="5396040"/>
                <a:ext cx="1914480" cy="690840"/>
                <a:chOff x="2671560" y="5396040"/>
                <a:chExt cx="1914480" cy="690840"/>
              </a:xfrm>
            </p:grpSpPr>
            <p:sp>
              <p:nvSpPr>
                <p:cNvPr id="137" name="Rectangle 55"/>
                <p:cNvSpPr/>
                <p:nvPr/>
              </p:nvSpPr>
              <p:spPr>
                <a:xfrm>
                  <a:off x="2732040" y="5457600"/>
                  <a:ext cx="17935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ll x Dwarf Plan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56"/>
                <p:cNvSpPr/>
                <p:nvPr/>
              </p:nvSpPr>
              <p:spPr>
                <a:xfrm>
                  <a:off x="2671560" y="5396040"/>
                  <a:ext cx="191448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57"/>
              <p:cNvGrpSpPr/>
              <p:nvPr/>
            </p:nvGrpSpPr>
            <p:grpSpPr>
              <a:xfrm>
                <a:off x="4586400" y="5396040"/>
                <a:ext cx="1275480" cy="690840"/>
                <a:chOff x="4586400" y="5396040"/>
                <a:chExt cx="1275480" cy="690840"/>
              </a:xfrm>
            </p:grpSpPr>
            <p:sp>
              <p:nvSpPr>
                <p:cNvPr id="140" name="Rectangle 58"/>
                <p:cNvSpPr/>
                <p:nvPr/>
              </p:nvSpPr>
              <p:spPr>
                <a:xfrm>
                  <a:off x="4646520" y="5457600"/>
                  <a:ext cx="11548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l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9"/>
                <p:cNvSpPr/>
                <p:nvPr/>
              </p:nvSpPr>
              <p:spPr>
                <a:xfrm>
                  <a:off x="4586400" y="5396040"/>
                  <a:ext cx="127548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60"/>
              <p:cNvGrpSpPr/>
              <p:nvPr/>
            </p:nvGrpSpPr>
            <p:grpSpPr>
              <a:xfrm>
                <a:off x="5862240" y="5396040"/>
                <a:ext cx="2169720" cy="690840"/>
                <a:chOff x="5862240" y="5396040"/>
                <a:chExt cx="2169720" cy="690840"/>
              </a:xfrm>
            </p:grpSpPr>
            <p:sp>
              <p:nvSpPr>
                <p:cNvPr id="143" name="Rectangle 61"/>
                <p:cNvSpPr/>
                <p:nvPr/>
              </p:nvSpPr>
              <p:spPr>
                <a:xfrm>
                  <a:off x="5922360" y="5457600"/>
                  <a:ext cx="20491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787 Tall 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7 Dwarf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62"/>
                <p:cNvSpPr/>
                <p:nvPr/>
              </p:nvSpPr>
              <p:spPr>
                <a:xfrm>
                  <a:off x="5862240" y="5396040"/>
                  <a:ext cx="216972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63"/>
              <p:cNvGrpSpPr/>
              <p:nvPr/>
            </p:nvGrpSpPr>
            <p:grpSpPr>
              <a:xfrm>
                <a:off x="8032680" y="5396040"/>
                <a:ext cx="925560" cy="690840"/>
                <a:chOff x="8032680" y="5396040"/>
                <a:chExt cx="925560" cy="69084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8092800" y="5457600"/>
                  <a:ext cx="8053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84: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65"/>
                <p:cNvSpPr/>
                <p:nvPr/>
              </p:nvSpPr>
              <p:spPr>
                <a:xfrm>
                  <a:off x="8032680" y="5396040"/>
                  <a:ext cx="92556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Rectangle 66"/>
            <p:cNvSpPr/>
            <p:nvPr/>
          </p:nvSpPr>
          <p:spPr>
            <a:xfrm>
              <a:off x="2666880" y="2133720"/>
              <a:ext cx="6297480" cy="3958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"/>
          <p:cNvSpPr/>
          <p:nvPr/>
        </p:nvSpPr>
        <p:spPr>
          <a:xfrm>
            <a:off x="2666880" y="5397480"/>
            <a:ext cx="6292800" cy="69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7"/>
          <p:cNvSpPr/>
          <p:nvPr/>
        </p:nvSpPr>
        <p:spPr>
          <a:xfrm>
            <a:off x="2671920" y="3767040"/>
            <a:ext cx="6292800" cy="69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8"/>
          <p:cNvSpPr/>
          <p:nvPr/>
        </p:nvSpPr>
        <p:spPr>
          <a:xfrm>
            <a:off x="2666880" y="4579920"/>
            <a:ext cx="6292800" cy="69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Mendel‘s Gener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versions of genes account for variations in inherited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cept of alleles (G=green, g=yel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haracter, an organism inherits two genes, one from each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o gametes form somatic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ne allele comes from the moth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rom the father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6194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http://www.ndsu.nodak.edu/instruct/mcclean/plsc431/mendel/peacolor.gif"/>
          <p:cNvPicPr/>
          <p:nvPr/>
        </p:nvPicPr>
        <p:blipFill>
          <a:blip r:embed="rId1"/>
          <a:stretch/>
        </p:blipFill>
        <p:spPr>
          <a:xfrm>
            <a:off x="152280" y="68580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400068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http://www.ndsu.nodak.edu/instruct/mcclean/plsc431/mendel/peashape.gif"/>
          <p:cNvPicPr/>
          <p:nvPr/>
        </p:nvPicPr>
        <p:blipFill>
          <a:blip r:embed="rId2"/>
          <a:stretch/>
        </p:blipFill>
        <p:spPr>
          <a:xfrm>
            <a:off x="7772400" y="609480"/>
            <a:ext cx="1143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two alleles differ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minant allele is fully expressed in the organism's appearance (pheno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cessive allele has no noticeable effect on the organism's appearance (geno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two genes for each character segregate   during gamete production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nsures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Mendel‘s Gener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http://www.ndsu.nodak.edu/instruct/mcclean/plsc431/mendel/peacolor.gif"/>
          <p:cNvPicPr/>
          <p:nvPr/>
        </p:nvPicPr>
        <p:blipFill>
          <a:blip r:embed="rId1"/>
          <a:stretch/>
        </p:blipFill>
        <p:spPr>
          <a:xfrm>
            <a:off x="152280" y="6858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ttp://www.ndsu.nodak.edu/instruct/mcclean/plsc431/mendel/peashape.gif"/>
          <p:cNvPicPr/>
          <p:nvPr/>
        </p:nvPicPr>
        <p:blipFill>
          <a:blip r:embed="rId2"/>
          <a:stretch/>
        </p:blipFill>
        <p:spPr>
          <a:xfrm>
            <a:off x="7696080" y="609480"/>
            <a:ext cx="1143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1:53:30Z</dcterms:created>
  <dc:creator>Alfred Spötzl</dc:creator>
  <dc:description/>
  <dc:language>en-US</dc:language>
  <cp:lastModifiedBy>O'Connor John</cp:lastModifiedBy>
  <dcterms:modified xsi:type="dcterms:W3CDTF">2012-01-31T13:33:59Z</dcterms:modified>
  <cp:revision>47</cp:revision>
  <dc:subject/>
  <dc:title>Mendel‘s Law of Segregation</dc:title>
</cp:coreProperties>
</file>